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除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644400" y="1916280"/>
            <a:ext cx="7527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除以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个数除以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混合运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684360" y="9525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52560" y="4432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29640" y="42926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743040" y="2214720"/>
            <a:ext cx="36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明平均每小时走多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4038480" y="3057480"/>
            <a:ext cx="4896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要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平均分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份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4824360" y="3519360"/>
            <a:ext cx="457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怎么想到要补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份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4824360" y="4162320"/>
            <a:ext cx="4572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部分表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4824360" y="4614840"/>
            <a:ext cx="4572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用算式表示出所画的意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4824360" y="4960800"/>
            <a:ext cx="48294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合线段图，说说你是怎么计算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84360" y="2881440"/>
            <a:ext cx="3249360" cy="2132640"/>
            <a:chOff x="684360" y="2881440"/>
            <a:chExt cx="3249360" cy="2132640"/>
          </a:xfrm>
        </p:grpSpPr>
        <p:grpSp>
          <p:nvGrpSpPr>
            <p:cNvPr id="377" name=""/>
            <p:cNvGrpSpPr/>
            <p:nvPr/>
          </p:nvGrpSpPr>
          <p:grpSpPr>
            <a:xfrm>
              <a:off x="693360" y="4024440"/>
              <a:ext cx="3240000" cy="81000"/>
              <a:chOff x="693360" y="4024440"/>
              <a:chExt cx="3240000" cy="81000"/>
            </a:xfrm>
          </p:grpSpPr>
          <p:sp>
            <p:nvSpPr>
              <p:cNvPr id="378" name=""/>
              <p:cNvSpPr/>
              <p:nvPr/>
            </p:nvSpPr>
            <p:spPr>
              <a:xfrm>
                <a:off x="693360" y="4033800"/>
                <a:ext cx="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1769760" y="4024440"/>
                <a:ext cx="2163600" cy="81000"/>
                <a:chOff x="1769760" y="4024440"/>
                <a:chExt cx="2163600" cy="810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933360" y="4033800"/>
                  <a:ext cx="0" cy="7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1" name=""/>
                <p:cNvGrpSpPr/>
                <p:nvPr/>
              </p:nvGrpSpPr>
              <p:grpSpPr>
                <a:xfrm>
                  <a:off x="1769760" y="4024440"/>
                  <a:ext cx="1084320" cy="71280"/>
                  <a:chOff x="1769760" y="4024440"/>
                  <a:chExt cx="1084320" cy="712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2854080" y="4024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769760" y="4024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4" name=""/>
            <p:cNvGrpSpPr/>
            <p:nvPr/>
          </p:nvGrpSpPr>
          <p:grpSpPr>
            <a:xfrm>
              <a:off x="684360" y="2881440"/>
              <a:ext cx="3249360" cy="2132640"/>
              <a:chOff x="684360" y="2881440"/>
              <a:chExt cx="3249360" cy="2132640"/>
            </a:xfrm>
          </p:grpSpPr>
          <p:sp>
            <p:nvSpPr>
              <p:cNvPr id="385" name=""/>
              <p:cNvSpPr/>
              <p:nvPr/>
            </p:nvSpPr>
            <p:spPr>
              <a:xfrm rot="16200000">
                <a:off x="1701360" y="3112920"/>
                <a:ext cx="142920" cy="215892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56160 h 2158920"/>
                  <a:gd name="textAreaBottom" fmla="*/ 2102760 h 215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3360" y="4095720"/>
                <a:ext cx="3238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 rot="5400000">
                <a:off x="1701360" y="2829600"/>
                <a:ext cx="142920" cy="215892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56160 h 2158920"/>
                  <a:gd name="textAreaBottom" fmla="*/ 2102760 h 215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90400" y="4187880"/>
                <a:ext cx="612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1485720" y="3232440"/>
                <a:ext cx="510480" cy="726120"/>
                <a:chOff x="1485720" y="3232440"/>
                <a:chExt cx="510480" cy="7261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491840" y="353556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485720" y="323244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501200" y="361836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1765080" y="3376800"/>
                <a:ext cx="718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小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2241000" y="2981160"/>
                <a:ext cx="142920" cy="323820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84240 h 3238200"/>
                  <a:gd name="textAreaBottom" fmla="*/ 3153960 h 32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73000" y="4591080"/>
                <a:ext cx="1798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走多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m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 rot="5400000">
                <a:off x="2232000" y="1659240"/>
                <a:ext cx="154080" cy="3249360"/>
              </a:xfrm>
              <a:custGeom>
                <a:avLst/>
                <a:gdLst>
                  <a:gd name="textAreaLeft" fmla="*/ 98640 w 154080"/>
                  <a:gd name="textAreaRight" fmla="*/ 154440 w 154080"/>
                  <a:gd name="textAreaTop" fmla="*/ 84600 h 3249360"/>
                  <a:gd name="textAreaBottom" fmla="*/ 3164760 h 324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17360" y="2881440"/>
                <a:ext cx="1223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小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4371840" y="1916280"/>
            <a:ext cx="4952880" cy="1122840"/>
            <a:chOff x="4371840" y="1916280"/>
            <a:chExt cx="4952880" cy="1122840"/>
          </a:xfrm>
        </p:grpSpPr>
        <p:grpSp>
          <p:nvGrpSpPr>
            <p:cNvPr id="399" name=""/>
            <p:cNvGrpSpPr/>
            <p:nvPr/>
          </p:nvGrpSpPr>
          <p:grpSpPr>
            <a:xfrm>
              <a:off x="4371840" y="1989000"/>
              <a:ext cx="4952880" cy="798480"/>
              <a:chOff x="4371840" y="1989000"/>
              <a:chExt cx="4952880" cy="79848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4832280" y="2009160"/>
                <a:ext cx="511200" cy="778320"/>
                <a:chOff x="4832280" y="2009160"/>
                <a:chExt cx="511200" cy="7783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838760" y="23644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832280" y="20091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848120" y="24278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4371840" y="2179080"/>
                <a:ext cx="4952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×    ×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×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km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）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7157880" y="1998000"/>
                <a:ext cx="511200" cy="778320"/>
                <a:chOff x="7157880" y="1998000"/>
                <a:chExt cx="511200" cy="7783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164360" y="23533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157880" y="19980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173720" y="24166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5797440" y="1989000"/>
                <a:ext cx="511200" cy="778320"/>
                <a:chOff x="5797440" y="1989000"/>
                <a:chExt cx="511200" cy="7783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803920" y="23443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797440" y="19890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813280" y="24076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6680160" y="1916280"/>
              <a:ext cx="772560" cy="1122840"/>
              <a:chOff x="6680160" y="1916280"/>
              <a:chExt cx="772560" cy="1122840"/>
            </a:xfrm>
          </p:grpSpPr>
          <p:sp>
            <p:nvSpPr>
              <p:cNvPr id="414" name=""/>
              <p:cNvSpPr/>
              <p:nvPr/>
            </p:nvSpPr>
            <p:spPr>
              <a:xfrm>
                <a:off x="6751080" y="2295360"/>
                <a:ext cx="217440" cy="215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225920" y="2511360"/>
                <a:ext cx="217080" cy="215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80160" y="1916280"/>
                <a:ext cx="288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64000" y="2616120"/>
                <a:ext cx="288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教学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除以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0"/>
          <p:cNvSpPr/>
          <p:nvPr/>
        </p:nvSpPr>
        <p:spPr>
          <a:xfrm>
            <a:off x="39672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自主操作，深入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357120" y="276120"/>
            <a:ext cx="837252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500040" y="4087800"/>
            <a:ext cx="8001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时走多少千米呢？根据信息和问题，画出线段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1285920" y="4441680"/>
            <a:ext cx="678636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线段图，列式并计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1285920" y="5354640"/>
            <a:ext cx="6786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比较，谁走得快些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314360" y="2131920"/>
            <a:ext cx="33465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1274760" y="3170160"/>
            <a:ext cx="8399520" cy="3425760"/>
            <a:chOff x="1274760" y="3170160"/>
            <a:chExt cx="8399520" cy="3425760"/>
          </a:xfrm>
        </p:grpSpPr>
        <p:sp>
          <p:nvSpPr>
            <p:cNvPr id="427" name="Rectangle 2"/>
            <p:cNvSpPr/>
            <p:nvPr/>
          </p:nvSpPr>
          <p:spPr>
            <a:xfrm>
              <a:off x="1274760" y="5886360"/>
              <a:ext cx="7572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观察上面两个算式的计算，你发现了什么？（一个数除以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数，等于乘这个分数的倒数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4721400" y="3170160"/>
              <a:ext cx="4952880" cy="1123200"/>
              <a:chOff x="4721400" y="3170160"/>
              <a:chExt cx="4952880" cy="112320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4721400" y="3243240"/>
                <a:ext cx="4952880" cy="799200"/>
                <a:chOff x="4721400" y="3243240"/>
                <a:chExt cx="4952880" cy="79920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5181840" y="3263760"/>
                  <a:ext cx="511200" cy="778680"/>
                  <a:chOff x="5181840" y="3263760"/>
                  <a:chExt cx="511200" cy="7786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5188320" y="361944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5181840" y="326376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197680" y="368280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4" name=""/>
                <p:cNvSpPr/>
                <p:nvPr/>
              </p:nvSpPr>
              <p:spPr>
                <a:xfrm>
                  <a:off x="4721400" y="3433680"/>
                  <a:ext cx="49528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÷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 ×    ×3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×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km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）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7507440" y="3252600"/>
                  <a:ext cx="511200" cy="778680"/>
                  <a:chOff x="7507440" y="3252600"/>
                  <a:chExt cx="511200" cy="77868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7513920" y="360828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507440" y="325260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523280" y="367164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6147000" y="3243240"/>
                  <a:ext cx="511200" cy="778680"/>
                  <a:chOff x="6147000" y="3243240"/>
                  <a:chExt cx="511200" cy="7786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6153480" y="359892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147000" y="324324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162840" y="366228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7029720" y="3170160"/>
                <a:ext cx="772560" cy="1123200"/>
                <a:chOff x="7029720" y="3170160"/>
                <a:chExt cx="772560" cy="11232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100640" y="3549600"/>
                  <a:ext cx="217440" cy="216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575480" y="3765600"/>
                  <a:ext cx="217080" cy="215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029720" y="3170160"/>
                  <a:ext cx="288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513560" y="3870360"/>
                  <a:ext cx="288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4788000" y="1989000"/>
            <a:ext cx="3727440" cy="1267560"/>
            <a:chOff x="4788000" y="1989000"/>
            <a:chExt cx="3727440" cy="1267560"/>
          </a:xfrm>
        </p:grpSpPr>
        <p:grpSp>
          <p:nvGrpSpPr>
            <p:cNvPr id="449" name=""/>
            <p:cNvGrpSpPr/>
            <p:nvPr/>
          </p:nvGrpSpPr>
          <p:grpSpPr>
            <a:xfrm>
              <a:off x="4788000" y="2244600"/>
              <a:ext cx="3727440" cy="786600"/>
              <a:chOff x="4788000" y="2244600"/>
              <a:chExt cx="3727440" cy="78660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4788000" y="2244600"/>
                <a:ext cx="3727440" cy="786600"/>
                <a:chOff x="4788000" y="2244600"/>
                <a:chExt cx="3727440" cy="786600"/>
              </a:xfrm>
            </p:grpSpPr>
            <p:sp>
              <p:nvSpPr>
                <p:cNvPr id="451" name="Rectangle 49"/>
                <p:cNvSpPr/>
                <p:nvPr/>
              </p:nvSpPr>
              <p:spPr>
                <a:xfrm>
                  <a:off x="5073840" y="2369520"/>
                  <a:ext cx="344160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÷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＝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× 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km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）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4788000" y="2244600"/>
                  <a:ext cx="1082520" cy="786600"/>
                  <a:chOff x="4788000" y="2244600"/>
                  <a:chExt cx="1082520" cy="7866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5365800" y="2244600"/>
                    <a:ext cx="504720" cy="761040"/>
                    <a:chOff x="5365800" y="2244600"/>
                    <a:chExt cx="504720" cy="76104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5365800" y="2582640"/>
                      <a:ext cx="5047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5448240" y="2244600"/>
                      <a:ext cx="3603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5464080" y="2663640"/>
                      <a:ext cx="28764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4788000" y="2252520"/>
                    <a:ext cx="511200" cy="778680"/>
                    <a:chOff x="4788000" y="2252520"/>
                    <a:chExt cx="511200" cy="7786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4794480" y="2608200"/>
                      <a:ext cx="5047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4788000" y="2252520"/>
                      <a:ext cx="3603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4803840" y="2671560"/>
                      <a:ext cx="2872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6010200" y="2247840"/>
                  <a:ext cx="511200" cy="778680"/>
                  <a:chOff x="6010200" y="2247840"/>
                  <a:chExt cx="511200" cy="7786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6016680" y="260352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6010200" y="224784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026040" y="266688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6526440" y="2249280"/>
                  <a:ext cx="586800" cy="778680"/>
                  <a:chOff x="6526440" y="2249280"/>
                  <a:chExt cx="586800" cy="77868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6608520" y="260496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6526440" y="2249280"/>
                    <a:ext cx="5806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589440" y="26683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"/>
              <p:cNvSpPr/>
              <p:nvPr/>
            </p:nvSpPr>
            <p:spPr>
              <a:xfrm>
                <a:off x="6031080" y="2392200"/>
                <a:ext cx="288720" cy="216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26160" y="2757240"/>
                <a:ext cx="289080" cy="216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031080" y="2752560"/>
                <a:ext cx="288720" cy="216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07440" y="2392200"/>
                <a:ext cx="288720" cy="216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5988240" y="1998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97720" y="19890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31080" y="28335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07440" y="28288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285920" y="4840200"/>
            <a:ext cx="7500960" cy="779400"/>
            <a:chOff x="1285920" y="4840200"/>
            <a:chExt cx="7500960" cy="779400"/>
          </a:xfrm>
        </p:grpSpPr>
        <p:sp>
          <p:nvSpPr>
            <p:cNvPr id="478" name="Rectangle 2"/>
            <p:cNvSpPr/>
            <p:nvPr/>
          </p:nvSpPr>
          <p:spPr>
            <a:xfrm>
              <a:off x="1285920" y="4910040"/>
              <a:ext cx="7500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这一步你是怎样想的，结合线段图说一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2160720" y="4840200"/>
              <a:ext cx="586800" cy="778680"/>
              <a:chOff x="2160720" y="4840200"/>
              <a:chExt cx="586800" cy="778680"/>
            </a:xfrm>
          </p:grpSpPr>
          <p:sp>
            <p:nvSpPr>
              <p:cNvPr id="480" name=""/>
              <p:cNvSpPr/>
              <p:nvPr/>
            </p:nvSpPr>
            <p:spPr>
              <a:xfrm>
                <a:off x="2242800" y="51958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160720" y="4840200"/>
                <a:ext cx="580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223720" y="52592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教学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个数除以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0"/>
          <p:cNvSpPr/>
          <p:nvPr/>
        </p:nvSpPr>
        <p:spPr>
          <a:xfrm>
            <a:off x="39672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自主操作，深入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50"/>
          <p:cNvSpPr/>
          <p:nvPr/>
        </p:nvSpPr>
        <p:spPr>
          <a:xfrm>
            <a:off x="39528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332000" y="2276640"/>
            <a:ext cx="6030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计算下面各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2421000"/>
            <a:ext cx="279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636560" y="2760840"/>
            <a:ext cx="4141800" cy="788040"/>
            <a:chOff x="1636560" y="2760840"/>
            <a:chExt cx="4141800" cy="788040"/>
          </a:xfrm>
        </p:grpSpPr>
        <p:grpSp>
          <p:nvGrpSpPr>
            <p:cNvPr id="489" name=""/>
            <p:cNvGrpSpPr/>
            <p:nvPr/>
          </p:nvGrpSpPr>
          <p:grpSpPr>
            <a:xfrm>
              <a:off x="1636560" y="2760840"/>
              <a:ext cx="1782720" cy="778680"/>
              <a:chOff x="1636560" y="2760840"/>
              <a:chExt cx="1782720" cy="77868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338200" y="2760840"/>
                <a:ext cx="511200" cy="778680"/>
                <a:chOff x="2338200" y="2760840"/>
                <a:chExt cx="511200" cy="7786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344680" y="31165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338200" y="27608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354040" y="31798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1636560" y="2938680"/>
                <a:ext cx="1782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612960" y="2762280"/>
              <a:ext cx="1030320" cy="786600"/>
              <a:chOff x="3612960" y="2762280"/>
              <a:chExt cx="1030320" cy="7866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3612960" y="2762280"/>
                <a:ext cx="1030320" cy="786600"/>
                <a:chOff x="3612960" y="2762280"/>
                <a:chExt cx="1030320" cy="7866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612960" y="3125880"/>
                  <a:ext cx="10206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（   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622320" y="2762280"/>
                  <a:ext cx="10209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（   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3857400" y="318924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3328920" y="2997360"/>
              <a:ext cx="360360" cy="36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65640" y="2924280"/>
              <a:ext cx="1512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286080" y="292428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917880" y="2762280"/>
            <a:ext cx="649440" cy="781920"/>
            <a:chOff x="3917880" y="2762280"/>
            <a:chExt cx="649440" cy="781920"/>
          </a:xfrm>
        </p:grpSpPr>
        <p:sp>
          <p:nvSpPr>
            <p:cNvPr id="504" name=""/>
            <p:cNvSpPr/>
            <p:nvPr/>
          </p:nvSpPr>
          <p:spPr>
            <a:xfrm>
              <a:off x="3917880" y="2762280"/>
              <a:ext cx="28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19320" y="3121200"/>
              <a:ext cx="648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788000" y="2940120"/>
            <a:ext cx="50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609560" y="3774960"/>
            <a:ext cx="4067280" cy="788040"/>
            <a:chOff x="1609560" y="3774960"/>
            <a:chExt cx="4067280" cy="788040"/>
          </a:xfrm>
        </p:grpSpPr>
        <p:grpSp>
          <p:nvGrpSpPr>
            <p:cNvPr id="508" name=""/>
            <p:cNvGrpSpPr/>
            <p:nvPr/>
          </p:nvGrpSpPr>
          <p:grpSpPr>
            <a:xfrm>
              <a:off x="1609560" y="3774960"/>
              <a:ext cx="4067280" cy="788040"/>
              <a:chOff x="1609560" y="3774960"/>
              <a:chExt cx="4067280" cy="78804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1609560" y="3774960"/>
                <a:ext cx="1878120" cy="778680"/>
                <a:chOff x="1609560" y="3774960"/>
                <a:chExt cx="1878120" cy="77868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2358720" y="3774960"/>
                  <a:ext cx="511200" cy="778680"/>
                  <a:chOff x="2358720" y="3774960"/>
                  <a:chExt cx="511200" cy="77868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2365200" y="413064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358720" y="377496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374560" y="419400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"/>
                <p:cNvSpPr/>
                <p:nvPr/>
              </p:nvSpPr>
              <p:spPr>
                <a:xfrm>
                  <a:off x="1704960" y="3924360"/>
                  <a:ext cx="1782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÷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5" name=""/>
                <p:cNvGrpSpPr/>
                <p:nvPr/>
              </p:nvGrpSpPr>
              <p:grpSpPr>
                <a:xfrm>
                  <a:off x="1609560" y="3774960"/>
                  <a:ext cx="504720" cy="761040"/>
                  <a:chOff x="1609560" y="3774960"/>
                  <a:chExt cx="504720" cy="76104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1609560" y="411300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1692000" y="377496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1707840" y="419400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2770200" y="3774960"/>
                <a:ext cx="1029600" cy="786600"/>
                <a:chOff x="2770200" y="3774960"/>
                <a:chExt cx="1029600" cy="786600"/>
              </a:xfrm>
            </p:grpSpPr>
            <p:grpSp>
              <p:nvGrpSpPr>
                <p:cNvPr id="520" name=""/>
                <p:cNvGrpSpPr/>
                <p:nvPr/>
              </p:nvGrpSpPr>
              <p:grpSpPr>
                <a:xfrm>
                  <a:off x="2770200" y="3774960"/>
                  <a:ext cx="1029600" cy="786600"/>
                  <a:chOff x="2770200" y="3774960"/>
                  <a:chExt cx="1029600" cy="7866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2770200" y="4138560"/>
                    <a:ext cx="102024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（   ）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779200" y="3774960"/>
                    <a:ext cx="10206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（   ）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"/>
                <p:cNvSpPr/>
                <p:nvPr/>
              </p:nvSpPr>
              <p:spPr>
                <a:xfrm>
                  <a:off x="3014280" y="4201920"/>
                  <a:ext cx="431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3781440" y="3774960"/>
                <a:ext cx="1895400" cy="788040"/>
                <a:chOff x="3781440" y="3774960"/>
                <a:chExt cx="1895400" cy="78804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3781440" y="3776400"/>
                  <a:ext cx="1030320" cy="786600"/>
                  <a:chOff x="3781440" y="3776400"/>
                  <a:chExt cx="1030320" cy="786600"/>
                </a:xfrm>
              </p:grpSpPr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3781440" y="3776400"/>
                    <a:ext cx="1030320" cy="786600"/>
                    <a:chOff x="3781440" y="3776400"/>
                    <a:chExt cx="1030320" cy="78660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781440" y="4140000"/>
                      <a:ext cx="10206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790800" y="3776400"/>
                      <a:ext cx="10209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9" name=""/>
                  <p:cNvSpPr/>
                  <p:nvPr/>
                </p:nvSpPr>
                <p:spPr>
                  <a:xfrm>
                    <a:off x="4025880" y="4203360"/>
                    <a:ext cx="432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4646520" y="3774960"/>
                  <a:ext cx="1030320" cy="786600"/>
                  <a:chOff x="4646520" y="3774960"/>
                  <a:chExt cx="1030320" cy="786600"/>
                </a:xfrm>
              </p:grpSpPr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4646520" y="3774960"/>
                    <a:ext cx="1030320" cy="786600"/>
                    <a:chOff x="4646520" y="3774960"/>
                    <a:chExt cx="1030320" cy="78660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4646520" y="4138560"/>
                      <a:ext cx="10206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4655880" y="3774960"/>
                      <a:ext cx="10209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4" name=""/>
                  <p:cNvSpPr/>
                  <p:nvPr/>
                </p:nvSpPr>
                <p:spPr>
                  <a:xfrm>
                    <a:off x="4890960" y="4201920"/>
                    <a:ext cx="432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>
                  <a:off x="4433760" y="3933720"/>
                  <a:ext cx="5032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" name=""/>
            <p:cNvSpPr/>
            <p:nvPr/>
          </p:nvSpPr>
          <p:spPr>
            <a:xfrm>
              <a:off x="3525840" y="4011480"/>
              <a:ext cx="360360" cy="36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997360" y="3784680"/>
            <a:ext cx="647640" cy="781560"/>
            <a:chOff x="2997360" y="3784680"/>
            <a:chExt cx="647640" cy="781560"/>
          </a:xfrm>
        </p:grpSpPr>
        <p:sp>
          <p:nvSpPr>
            <p:cNvPr id="538" name=""/>
            <p:cNvSpPr/>
            <p:nvPr/>
          </p:nvSpPr>
          <p:spPr>
            <a:xfrm>
              <a:off x="3087720" y="3784680"/>
              <a:ext cx="28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97360" y="4143240"/>
              <a:ext cx="64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086360" y="3780000"/>
            <a:ext cx="648720" cy="781560"/>
            <a:chOff x="4086360" y="3780000"/>
            <a:chExt cx="648720" cy="781560"/>
          </a:xfrm>
        </p:grpSpPr>
        <p:sp>
          <p:nvSpPr>
            <p:cNvPr id="541" name=""/>
            <p:cNvSpPr/>
            <p:nvPr/>
          </p:nvSpPr>
          <p:spPr>
            <a:xfrm>
              <a:off x="4086360" y="3780000"/>
              <a:ext cx="286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87440" y="4138560"/>
              <a:ext cx="64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483000" y="393228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865760" y="3774960"/>
            <a:ext cx="647640" cy="781920"/>
            <a:chOff x="4865760" y="3774960"/>
            <a:chExt cx="647640" cy="781920"/>
          </a:xfrm>
        </p:grpSpPr>
        <p:sp>
          <p:nvSpPr>
            <p:cNvPr id="545" name=""/>
            <p:cNvSpPr/>
            <p:nvPr/>
          </p:nvSpPr>
          <p:spPr>
            <a:xfrm>
              <a:off x="4875120" y="3774960"/>
              <a:ext cx="62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65760" y="4133880"/>
              <a:ext cx="64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教学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个数除以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1"/>
          <p:cNvSpPr/>
          <p:nvPr/>
        </p:nvSpPr>
        <p:spPr>
          <a:xfrm>
            <a:off x="395280" y="1413000"/>
            <a:ext cx="5072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理解情境，解决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471600" y="42372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、教学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乘除混合运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1292400" y="5343480"/>
            <a:ext cx="75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出示方法一）谁读懂了它的意思？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1292400" y="5770440"/>
            <a:ext cx="705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出示方法二）谁读懂了它的意思？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500040" y="457200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1292400" y="5029200"/>
            <a:ext cx="610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解决这个问题吗？用算式表达你的思考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"/>
          <p:cNvSpPr/>
          <p:nvPr/>
        </p:nvSpPr>
        <p:spPr>
          <a:xfrm>
            <a:off x="1285920" y="6164280"/>
            <a:ext cx="7786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的两种方法，请你用综合算式表示，并写出计算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849240" y="2090880"/>
            <a:ext cx="3976920" cy="215892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4859280" y="1790640"/>
            <a:ext cx="4381560" cy="1459440"/>
            <a:chOff x="4859280" y="1790640"/>
            <a:chExt cx="4381560" cy="1459440"/>
          </a:xfrm>
        </p:grpSpPr>
        <p:sp>
          <p:nvSpPr>
            <p:cNvPr id="557" name="TextBox 15"/>
            <p:cNvSpPr/>
            <p:nvPr/>
          </p:nvSpPr>
          <p:spPr>
            <a:xfrm>
              <a:off x="4859280" y="1989000"/>
              <a:ext cx="1643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法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5938920" y="1790640"/>
              <a:ext cx="2447280" cy="783360"/>
              <a:chOff x="5938920" y="1790640"/>
              <a:chExt cx="2447280" cy="78336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5938920" y="1795320"/>
                <a:ext cx="1396440" cy="778680"/>
                <a:chOff x="5938920" y="1795320"/>
                <a:chExt cx="1396440" cy="7786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241680" y="201276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938920" y="215100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952960" y="179532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959080" y="221436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6643440" y="1996920"/>
                <a:ext cx="1742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片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7057800" y="1790640"/>
                <a:ext cx="678960" cy="768960"/>
                <a:chOff x="7057800" y="1790640"/>
                <a:chExt cx="678960" cy="7689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063920" y="213660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057800" y="1790640"/>
                  <a:ext cx="6789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076520" y="2212920"/>
                  <a:ext cx="286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9" name=""/>
            <p:cNvGrpSpPr/>
            <p:nvPr/>
          </p:nvGrpSpPr>
          <p:grpSpPr>
            <a:xfrm>
              <a:off x="5856120" y="2469960"/>
              <a:ext cx="3384720" cy="780120"/>
              <a:chOff x="5856120" y="2469960"/>
              <a:chExt cx="3384720" cy="780120"/>
            </a:xfrm>
          </p:grpSpPr>
          <p:sp>
            <p:nvSpPr>
              <p:cNvPr id="570" name=""/>
              <p:cNvSpPr/>
              <p:nvPr/>
            </p:nvSpPr>
            <p:spPr>
              <a:xfrm>
                <a:off x="5856120" y="2633400"/>
                <a:ext cx="338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天）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6432480" y="2471400"/>
                <a:ext cx="511200" cy="778680"/>
                <a:chOff x="6432480" y="2471400"/>
                <a:chExt cx="511200" cy="7786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6438960" y="28270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432480" y="24714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448320" y="28904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7511760" y="2469960"/>
                <a:ext cx="511200" cy="778680"/>
                <a:chOff x="7511760" y="2469960"/>
                <a:chExt cx="511200" cy="7786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518240" y="28256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511760" y="24699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27600" y="288900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9" name=""/>
          <p:cNvGrpSpPr/>
          <p:nvPr/>
        </p:nvGrpSpPr>
        <p:grpSpPr>
          <a:xfrm>
            <a:off x="4870440" y="3203640"/>
            <a:ext cx="4381560" cy="1210320"/>
            <a:chOff x="4870440" y="3203640"/>
            <a:chExt cx="4381560" cy="1210320"/>
          </a:xfrm>
        </p:grpSpPr>
        <p:sp>
          <p:nvSpPr>
            <p:cNvPr id="580" name="TextBox 15"/>
            <p:cNvSpPr/>
            <p:nvPr/>
          </p:nvSpPr>
          <p:spPr>
            <a:xfrm>
              <a:off x="4870440" y="3360960"/>
              <a:ext cx="1643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法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5867280" y="3203640"/>
              <a:ext cx="3384720" cy="780120"/>
              <a:chOff x="5867280" y="3203640"/>
              <a:chExt cx="3384720" cy="780120"/>
            </a:xfrm>
          </p:grpSpPr>
          <p:sp>
            <p:nvSpPr>
              <p:cNvPr id="582" name=""/>
              <p:cNvSpPr/>
              <p:nvPr/>
            </p:nvSpPr>
            <p:spPr>
              <a:xfrm>
                <a:off x="5867280" y="3367080"/>
                <a:ext cx="338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次）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6443640" y="3205080"/>
                <a:ext cx="511200" cy="778680"/>
                <a:chOff x="6443640" y="3205080"/>
                <a:chExt cx="511200" cy="7786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6450120" y="35607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443640" y="32050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459480" y="36241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7522920" y="3203640"/>
                <a:ext cx="511200" cy="778680"/>
                <a:chOff x="7522920" y="3203640"/>
                <a:chExt cx="511200" cy="77868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529400" y="35593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522920" y="32036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538760" y="36226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1" name=""/>
            <p:cNvSpPr/>
            <p:nvPr/>
          </p:nvSpPr>
          <p:spPr>
            <a:xfrm>
              <a:off x="5886360" y="3990960"/>
              <a:ext cx="208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÷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天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1285920" y="5952960"/>
            <a:ext cx="75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谁读懂了它的意思，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493560" y="509580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1285920" y="5591160"/>
            <a:ext cx="610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解决这个问题吗？用算式表达你的思考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"/>
          <p:cNvSpPr/>
          <p:nvPr/>
        </p:nvSpPr>
        <p:spPr>
          <a:xfrm>
            <a:off x="395280" y="1413000"/>
            <a:ext cx="439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5000" y="1916280"/>
            <a:ext cx="5904000" cy="1328400"/>
            <a:chOff x="765000" y="1916280"/>
            <a:chExt cx="5904000" cy="1328400"/>
          </a:xfrm>
        </p:grpSpPr>
        <p:sp>
          <p:nvSpPr>
            <p:cNvPr id="597" name=""/>
            <p:cNvSpPr/>
            <p:nvPr/>
          </p:nvSpPr>
          <p:spPr>
            <a:xfrm>
              <a:off x="765000" y="1916280"/>
              <a:ext cx="5904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王叔叔家阁楼上的窗玻璃是梯形的，上底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下底和高分别是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这块玻璃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面积是多少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2636640" y="2290680"/>
              <a:ext cx="511200" cy="778320"/>
              <a:chOff x="2636640" y="2290680"/>
              <a:chExt cx="511200" cy="778320"/>
            </a:xfrm>
          </p:grpSpPr>
          <p:sp>
            <p:nvSpPr>
              <p:cNvPr id="599" name=""/>
              <p:cNvSpPr/>
              <p:nvPr/>
            </p:nvSpPr>
            <p:spPr>
              <a:xfrm>
                <a:off x="2643120" y="26460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36640" y="22906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652480" y="27090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403440" y="2284200"/>
              <a:ext cx="511200" cy="778320"/>
              <a:chOff x="3403440" y="2284200"/>
              <a:chExt cx="511200" cy="778320"/>
            </a:xfrm>
          </p:grpSpPr>
          <p:sp>
            <p:nvSpPr>
              <p:cNvPr id="603" name=""/>
              <p:cNvSpPr/>
              <p:nvPr/>
            </p:nvSpPr>
            <p:spPr>
              <a:xfrm>
                <a:off x="3409920" y="2639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03440" y="2284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419280" y="27028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4195440" y="2284200"/>
              <a:ext cx="511200" cy="778320"/>
              <a:chOff x="4195440" y="2284200"/>
              <a:chExt cx="511200" cy="778320"/>
            </a:xfrm>
          </p:grpSpPr>
          <p:sp>
            <p:nvSpPr>
              <p:cNvPr id="607" name=""/>
              <p:cNvSpPr/>
              <p:nvPr/>
            </p:nvSpPr>
            <p:spPr>
              <a:xfrm>
                <a:off x="4201920" y="2639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195440" y="2284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211280" y="27028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6516720" y="1989000"/>
            <a:ext cx="1814400" cy="1801800"/>
          </a:xfrm>
          <a:prstGeom prst="rect">
            <a:avLst/>
          </a:prstGeom>
          <a:ln w="0">
            <a:noFill/>
          </a:ln>
        </p:spPr>
      </p:pic>
      <p:grpSp>
        <p:nvGrpSpPr>
          <p:cNvPr id="611" name=""/>
          <p:cNvGrpSpPr/>
          <p:nvPr/>
        </p:nvGrpSpPr>
        <p:grpSpPr>
          <a:xfrm>
            <a:off x="3179880" y="3213000"/>
            <a:ext cx="2717640" cy="2039040"/>
            <a:chOff x="3179880" y="3213000"/>
            <a:chExt cx="2717640" cy="2039040"/>
          </a:xfrm>
        </p:grpSpPr>
        <p:grpSp>
          <p:nvGrpSpPr>
            <p:cNvPr id="612" name=""/>
            <p:cNvGrpSpPr/>
            <p:nvPr/>
          </p:nvGrpSpPr>
          <p:grpSpPr>
            <a:xfrm>
              <a:off x="3376800" y="3213000"/>
              <a:ext cx="2520720" cy="797760"/>
              <a:chOff x="3376800" y="3213000"/>
              <a:chExt cx="2520720" cy="79776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3693960" y="3232080"/>
                <a:ext cx="510480" cy="778680"/>
                <a:chOff x="3693960" y="3232080"/>
                <a:chExt cx="510480" cy="77868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700080" y="358776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693960" y="323208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709440" y="365112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3376800" y="3378240"/>
                <a:ext cx="2520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  ＋  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   ÷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4209840" y="3232080"/>
                <a:ext cx="510480" cy="778680"/>
                <a:chOff x="4209840" y="3232080"/>
                <a:chExt cx="510480" cy="77868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4215960" y="358776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209840" y="323208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225320" y="365112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035320" y="3213000"/>
                <a:ext cx="510480" cy="778680"/>
                <a:chOff x="5035320" y="3213000"/>
                <a:chExt cx="510480" cy="77868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041440" y="356868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035320" y="321300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050800" y="363204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>
              <a:off x="3179880" y="3979800"/>
              <a:ext cx="2089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  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3578400" y="3840120"/>
              <a:ext cx="511200" cy="778680"/>
              <a:chOff x="3578400" y="3840120"/>
              <a:chExt cx="511200" cy="778680"/>
            </a:xfrm>
          </p:grpSpPr>
          <p:sp>
            <p:nvSpPr>
              <p:cNvPr id="628" name=""/>
              <p:cNvSpPr/>
              <p:nvPr/>
            </p:nvSpPr>
            <p:spPr>
              <a:xfrm>
                <a:off x="3584880" y="4195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578400" y="38401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594240" y="4259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4143600" y="3841560"/>
              <a:ext cx="511200" cy="778680"/>
              <a:chOff x="4143600" y="3841560"/>
              <a:chExt cx="511200" cy="778680"/>
            </a:xfrm>
          </p:grpSpPr>
          <p:sp>
            <p:nvSpPr>
              <p:cNvPr id="632" name=""/>
              <p:cNvSpPr/>
              <p:nvPr/>
            </p:nvSpPr>
            <p:spPr>
              <a:xfrm>
                <a:off x="4150080" y="41972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143600" y="3841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159440" y="42606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4675320" y="3832200"/>
              <a:ext cx="511200" cy="778680"/>
              <a:chOff x="4675320" y="3832200"/>
              <a:chExt cx="511200" cy="778680"/>
            </a:xfrm>
          </p:grpSpPr>
          <p:sp>
            <p:nvSpPr>
              <p:cNvPr id="636" name=""/>
              <p:cNvSpPr/>
              <p:nvPr/>
            </p:nvSpPr>
            <p:spPr>
              <a:xfrm>
                <a:off x="4681800" y="41878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675320" y="3832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91160" y="42512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3195720" y="4608360"/>
              <a:ext cx="1871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3530880" y="4473360"/>
              <a:ext cx="576000" cy="778680"/>
              <a:chOff x="3530880" y="4473360"/>
              <a:chExt cx="576000" cy="778680"/>
            </a:xfrm>
          </p:grpSpPr>
          <p:sp>
            <p:nvSpPr>
              <p:cNvPr id="641" name=""/>
              <p:cNvSpPr/>
              <p:nvPr/>
            </p:nvSpPr>
            <p:spPr>
              <a:xfrm>
                <a:off x="3537000" y="48290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530880" y="4473360"/>
                <a:ext cx="576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03600" y="489240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4168800" y="4643280"/>
              <a:ext cx="360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Rectangle 2"/>
          <p:cNvSpPr/>
          <p:nvPr/>
        </p:nvSpPr>
        <p:spPr>
          <a:xfrm>
            <a:off x="471600" y="42372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、教学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乘除混合运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457200" y="417600"/>
            <a:ext cx="4278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五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1104840" y="2362320"/>
            <a:ext cx="7283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七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14240" y="1571760"/>
            <a:ext cx="471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下面各数的倒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85920" y="3786120"/>
            <a:ext cx="1643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41360" y="266544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68360" y="2492280"/>
            <a:ext cx="511200" cy="778680"/>
            <a:chOff x="2268360" y="2492280"/>
            <a:chExt cx="511200" cy="778680"/>
          </a:xfrm>
        </p:grpSpPr>
        <p:sp>
          <p:nvSpPr>
            <p:cNvPr id="48" name=""/>
            <p:cNvSpPr/>
            <p:nvPr/>
          </p:nvSpPr>
          <p:spPr>
            <a:xfrm>
              <a:off x="2274840" y="2847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68360" y="24922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4200" y="291132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268800" y="2492280"/>
            <a:ext cx="511200" cy="778680"/>
            <a:chOff x="3268800" y="2492280"/>
            <a:chExt cx="511200" cy="778680"/>
          </a:xfrm>
        </p:grpSpPr>
        <p:sp>
          <p:nvSpPr>
            <p:cNvPr id="52" name=""/>
            <p:cNvSpPr/>
            <p:nvPr/>
          </p:nvSpPr>
          <p:spPr>
            <a:xfrm>
              <a:off x="3275280" y="2847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8800" y="24922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4640" y="291132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129200" y="2492280"/>
            <a:ext cx="586800" cy="778680"/>
            <a:chOff x="4129200" y="2492280"/>
            <a:chExt cx="586800" cy="778680"/>
          </a:xfrm>
        </p:grpSpPr>
        <p:sp>
          <p:nvSpPr>
            <p:cNvPr id="56" name=""/>
            <p:cNvSpPr/>
            <p:nvPr/>
          </p:nvSpPr>
          <p:spPr>
            <a:xfrm>
              <a:off x="4211280" y="2847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29200" y="2492280"/>
              <a:ext cx="580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2200" y="291132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176800" y="263700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35240" y="4102200"/>
            <a:ext cx="511200" cy="778680"/>
            <a:chOff x="1335240" y="4102200"/>
            <a:chExt cx="511200" cy="778680"/>
          </a:xfrm>
        </p:grpSpPr>
        <p:sp>
          <p:nvSpPr>
            <p:cNvPr id="61" name=""/>
            <p:cNvSpPr/>
            <p:nvPr/>
          </p:nvSpPr>
          <p:spPr>
            <a:xfrm>
              <a:off x="1341720" y="44578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35240" y="41022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1080" y="452124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262240" y="430200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1560" y="4129200"/>
            <a:ext cx="504720" cy="778320"/>
            <a:chOff x="4111560" y="4129200"/>
            <a:chExt cx="504720" cy="778320"/>
          </a:xfrm>
        </p:grpSpPr>
        <p:sp>
          <p:nvSpPr>
            <p:cNvPr id="66" name=""/>
            <p:cNvSpPr/>
            <p:nvPr/>
          </p:nvSpPr>
          <p:spPr>
            <a:xfrm>
              <a:off x="4111560" y="44845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00480" y="41292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8160" y="45478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219640" y="429912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03640" y="4114800"/>
            <a:ext cx="511200" cy="778680"/>
            <a:chOff x="3203640" y="4114800"/>
            <a:chExt cx="511200" cy="778680"/>
          </a:xfrm>
        </p:grpSpPr>
        <p:sp>
          <p:nvSpPr>
            <p:cNvPr id="71" name=""/>
            <p:cNvSpPr/>
            <p:nvPr/>
          </p:nvSpPr>
          <p:spPr>
            <a:xfrm>
              <a:off x="3210120" y="44704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3640" y="41148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19480" y="453384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2560" y="4432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8560" y="4648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教学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除以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组合 40" descr=""/>
          <p:cNvPicPr/>
          <p:nvPr/>
        </p:nvPicPr>
        <p:blipFill>
          <a:blip r:embed="rId2"/>
          <a:stretch/>
        </p:blipFill>
        <p:spPr>
          <a:xfrm>
            <a:off x="1879560" y="2924280"/>
            <a:ext cx="173664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257040" y="2176560"/>
            <a:ext cx="8750160" cy="3964680"/>
            <a:chOff x="257040" y="2176560"/>
            <a:chExt cx="8750160" cy="3964680"/>
          </a:xfrm>
        </p:grpSpPr>
        <p:sp>
          <p:nvSpPr>
            <p:cNvPr id="79" name="TextBox 7"/>
            <p:cNvSpPr/>
            <p:nvPr/>
          </p:nvSpPr>
          <p:spPr>
            <a:xfrm>
              <a:off x="965160" y="2295720"/>
              <a:ext cx="1643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一张纸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8"/>
            <p:cNvSpPr/>
            <p:nvPr/>
          </p:nvSpPr>
          <p:spPr>
            <a:xfrm>
              <a:off x="2614320" y="2338560"/>
              <a:ext cx="5000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均分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，每份是这张纸的几分之几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363760" y="2176560"/>
              <a:ext cx="511200" cy="778680"/>
              <a:chOff x="2363760" y="2176560"/>
              <a:chExt cx="511200" cy="778680"/>
            </a:xfrm>
          </p:grpSpPr>
          <p:sp>
            <p:nvSpPr>
              <p:cNvPr id="82" name=""/>
              <p:cNvSpPr/>
              <p:nvPr/>
            </p:nvSpPr>
            <p:spPr>
              <a:xfrm>
                <a:off x="2370240" y="25322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363760" y="2176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379600" y="25956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57040" y="5124600"/>
              <a:ext cx="8750160" cy="1016640"/>
              <a:chOff x="257040" y="5124600"/>
              <a:chExt cx="8750160" cy="1016640"/>
            </a:xfrm>
          </p:grpSpPr>
          <p:sp>
            <p:nvSpPr>
              <p:cNvPr id="86" name="Rectangle 2"/>
              <p:cNvSpPr/>
              <p:nvPr/>
            </p:nvSpPr>
            <p:spPr>
              <a:xfrm>
                <a:off x="257040" y="5124600"/>
                <a:ext cx="8750160" cy="7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请看上面的问题，和我们以前学过的什么知识有关系？（平均分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求一份是多少） 你能列出算式吗？（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5311800" y="5362560"/>
                <a:ext cx="510480" cy="778680"/>
                <a:chOff x="5311800" y="5362560"/>
                <a:chExt cx="510480" cy="7786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17920" y="571824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11800" y="536256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327280" y="578160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" name=""/>
          <p:cNvGrpSpPr/>
          <p:nvPr/>
        </p:nvGrpSpPr>
        <p:grpSpPr>
          <a:xfrm>
            <a:off x="-34920" y="2933640"/>
            <a:ext cx="8748720" cy="2138400"/>
            <a:chOff x="-34920" y="2933640"/>
            <a:chExt cx="8748720" cy="2138400"/>
          </a:xfrm>
        </p:grpSpPr>
        <p:grpSp>
          <p:nvGrpSpPr>
            <p:cNvPr id="92" name=""/>
            <p:cNvGrpSpPr/>
            <p:nvPr/>
          </p:nvGrpSpPr>
          <p:grpSpPr>
            <a:xfrm>
              <a:off x="1893600" y="2933640"/>
              <a:ext cx="2142720" cy="1214280"/>
              <a:chOff x="1893600" y="2933640"/>
              <a:chExt cx="2142720" cy="1214280"/>
            </a:xfrm>
          </p:grpSpPr>
          <p:sp>
            <p:nvSpPr>
              <p:cNvPr id="93" name="矩形 16"/>
              <p:cNvSpPr/>
              <p:nvPr/>
            </p:nvSpPr>
            <p:spPr>
              <a:xfrm>
                <a:off x="1893600" y="2933640"/>
                <a:ext cx="428400" cy="121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矩形 17"/>
              <p:cNvSpPr/>
              <p:nvPr/>
            </p:nvSpPr>
            <p:spPr>
              <a:xfrm>
                <a:off x="2322000" y="2933640"/>
                <a:ext cx="428400" cy="121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8"/>
              <p:cNvSpPr/>
              <p:nvPr/>
            </p:nvSpPr>
            <p:spPr>
              <a:xfrm>
                <a:off x="2750760" y="2933640"/>
                <a:ext cx="428400" cy="121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9"/>
              <p:cNvSpPr/>
              <p:nvPr/>
            </p:nvSpPr>
            <p:spPr>
              <a:xfrm>
                <a:off x="3179160" y="2933640"/>
                <a:ext cx="428400" cy="121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20"/>
              <p:cNvSpPr/>
              <p:nvPr/>
            </p:nvSpPr>
            <p:spPr>
              <a:xfrm>
                <a:off x="3607920" y="2933640"/>
                <a:ext cx="428400" cy="121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Rectangle 2"/>
            <p:cNvSpPr/>
            <p:nvPr/>
          </p:nvSpPr>
          <p:spPr>
            <a:xfrm>
              <a:off x="-34920" y="4362480"/>
              <a:ext cx="87487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问题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能用阴影表示出这张纸的     吗？（学生画出长方形纸的  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83920" y="4268880"/>
              <a:ext cx="510480" cy="778320"/>
              <a:chOff x="4183920" y="4268880"/>
              <a:chExt cx="510480" cy="778320"/>
            </a:xfrm>
          </p:grpSpPr>
          <p:sp>
            <p:nvSpPr>
              <p:cNvPr id="100" name=""/>
              <p:cNvSpPr/>
              <p:nvPr/>
            </p:nvSpPr>
            <p:spPr>
              <a:xfrm>
                <a:off x="4190040" y="462420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183920" y="426888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199400" y="468756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648560" y="4259160"/>
              <a:ext cx="510480" cy="778680"/>
              <a:chOff x="7648560" y="4259160"/>
              <a:chExt cx="510480" cy="778680"/>
            </a:xfrm>
          </p:grpSpPr>
          <p:sp>
            <p:nvSpPr>
              <p:cNvPr id="104" name=""/>
              <p:cNvSpPr/>
              <p:nvPr/>
            </p:nvSpPr>
            <p:spPr>
              <a:xfrm>
                <a:off x="7654680" y="46148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8560" y="425916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4040" y="467820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236520" y="5915160"/>
            <a:ext cx="8750160" cy="778320"/>
            <a:chOff x="236520" y="5915160"/>
            <a:chExt cx="8750160" cy="778320"/>
          </a:xfrm>
        </p:grpSpPr>
        <p:sp>
          <p:nvSpPr>
            <p:cNvPr id="108" name="Rectangle 2"/>
            <p:cNvSpPr/>
            <p:nvPr/>
          </p:nvSpPr>
          <p:spPr>
            <a:xfrm>
              <a:off x="236520" y="5972040"/>
              <a:ext cx="875016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借助手中的学具，折一折，画一画，表示出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意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040440" y="5915160"/>
              <a:ext cx="511200" cy="778320"/>
              <a:chOff x="6040440" y="5915160"/>
              <a:chExt cx="511200" cy="778320"/>
            </a:xfrm>
          </p:grpSpPr>
          <p:sp>
            <p:nvSpPr>
              <p:cNvPr id="110" name=""/>
              <p:cNvSpPr/>
              <p:nvPr/>
            </p:nvSpPr>
            <p:spPr>
              <a:xfrm>
                <a:off x="6046920" y="62704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40440" y="59151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56280" y="63338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Box 6"/>
          <p:cNvSpPr/>
          <p:nvPr/>
        </p:nvSpPr>
        <p:spPr>
          <a:xfrm>
            <a:off x="395280" y="1413000"/>
            <a:ext cx="597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引入情境，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60" y="4432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14200" y="485784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算式表示出刚才折或画的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000080" y="535788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合画好的图，说说你的计算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87280" y="2060640"/>
            <a:ext cx="6649920" cy="778680"/>
            <a:chOff x="1187280" y="2060640"/>
            <a:chExt cx="6649920" cy="778680"/>
          </a:xfrm>
        </p:grpSpPr>
        <p:sp>
          <p:nvSpPr>
            <p:cNvPr id="118" name="TextBox 7"/>
            <p:cNvSpPr/>
            <p:nvPr/>
          </p:nvSpPr>
          <p:spPr>
            <a:xfrm>
              <a:off x="1187280" y="2179800"/>
              <a:ext cx="1643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一张纸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8"/>
            <p:cNvSpPr/>
            <p:nvPr/>
          </p:nvSpPr>
          <p:spPr>
            <a:xfrm>
              <a:off x="2836800" y="2222640"/>
              <a:ext cx="5000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均分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，每份是这张纸的几分之几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585880" y="2060640"/>
              <a:ext cx="511200" cy="778680"/>
              <a:chOff x="2585880" y="2060640"/>
              <a:chExt cx="511200" cy="778680"/>
            </a:xfrm>
          </p:grpSpPr>
          <p:sp>
            <p:nvSpPr>
              <p:cNvPr id="121" name=""/>
              <p:cNvSpPr/>
              <p:nvPr/>
            </p:nvSpPr>
            <p:spPr>
              <a:xfrm>
                <a:off x="2592360" y="2416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5880" y="2060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01720" y="24796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1332000" y="4005360"/>
            <a:ext cx="2597760" cy="799200"/>
            <a:chOff x="1332000" y="4005360"/>
            <a:chExt cx="2597760" cy="799200"/>
          </a:xfrm>
        </p:grpSpPr>
        <p:grpSp>
          <p:nvGrpSpPr>
            <p:cNvPr id="125" name=""/>
            <p:cNvGrpSpPr/>
            <p:nvPr/>
          </p:nvGrpSpPr>
          <p:grpSpPr>
            <a:xfrm>
              <a:off x="1332000" y="4025880"/>
              <a:ext cx="510480" cy="778680"/>
              <a:chOff x="1332000" y="4025880"/>
              <a:chExt cx="510480" cy="778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338120" y="438156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332000" y="402588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47480" y="444492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561680" y="4189680"/>
              <a:ext cx="2001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         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382480" y="4014720"/>
              <a:ext cx="893520" cy="778680"/>
              <a:chOff x="2382480" y="4014720"/>
              <a:chExt cx="893520" cy="778680"/>
            </a:xfrm>
          </p:grpSpPr>
          <p:sp>
            <p:nvSpPr>
              <p:cNvPr id="131" name=""/>
              <p:cNvSpPr/>
              <p:nvPr/>
            </p:nvSpPr>
            <p:spPr>
              <a:xfrm>
                <a:off x="2607480" y="437040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382480" y="4014720"/>
                <a:ext cx="893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÷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97960" y="4433760"/>
                <a:ext cx="660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19280" y="4005360"/>
              <a:ext cx="510480" cy="778680"/>
              <a:chOff x="3419280" y="4005360"/>
              <a:chExt cx="510480" cy="77868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5400" y="43610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19280" y="400536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34760" y="442440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403280" y="2781360"/>
            <a:ext cx="2143080" cy="1214280"/>
            <a:chOff x="1403280" y="2781360"/>
            <a:chExt cx="2143080" cy="1214280"/>
          </a:xfrm>
        </p:grpSpPr>
        <p:sp>
          <p:nvSpPr>
            <p:cNvPr id="139" name="矩形 16"/>
            <p:cNvSpPr/>
            <p:nvPr/>
          </p:nvSpPr>
          <p:spPr>
            <a:xfrm>
              <a:off x="140328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7"/>
            <p:cNvSpPr/>
            <p:nvPr/>
          </p:nvSpPr>
          <p:spPr>
            <a:xfrm>
              <a:off x="183168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8"/>
            <p:cNvSpPr/>
            <p:nvPr/>
          </p:nvSpPr>
          <p:spPr>
            <a:xfrm>
              <a:off x="226044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9"/>
            <p:cNvSpPr/>
            <p:nvPr/>
          </p:nvSpPr>
          <p:spPr>
            <a:xfrm>
              <a:off x="268920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20"/>
            <p:cNvSpPr/>
            <p:nvPr/>
          </p:nvSpPr>
          <p:spPr>
            <a:xfrm>
              <a:off x="311796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403280" y="2781360"/>
            <a:ext cx="1714680" cy="1214280"/>
            <a:chOff x="1403280" y="2781360"/>
            <a:chExt cx="1714680" cy="1214280"/>
          </a:xfrm>
        </p:grpSpPr>
        <p:sp>
          <p:nvSpPr>
            <p:cNvPr id="145" name="矩形 16"/>
            <p:cNvSpPr/>
            <p:nvPr/>
          </p:nvSpPr>
          <p:spPr>
            <a:xfrm>
              <a:off x="1403280" y="2781360"/>
              <a:ext cx="428760" cy="12142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7"/>
            <p:cNvSpPr/>
            <p:nvPr/>
          </p:nvSpPr>
          <p:spPr>
            <a:xfrm>
              <a:off x="1832040" y="2781360"/>
              <a:ext cx="428400" cy="12142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8"/>
            <p:cNvSpPr/>
            <p:nvPr/>
          </p:nvSpPr>
          <p:spPr>
            <a:xfrm>
              <a:off x="2260440" y="2781360"/>
              <a:ext cx="428760" cy="1214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9"/>
            <p:cNvSpPr/>
            <p:nvPr/>
          </p:nvSpPr>
          <p:spPr>
            <a:xfrm>
              <a:off x="2689200" y="2781360"/>
              <a:ext cx="428760" cy="1214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311800" y="2708280"/>
            <a:ext cx="2143080" cy="1214280"/>
            <a:chOff x="5311800" y="2708280"/>
            <a:chExt cx="2143080" cy="1214280"/>
          </a:xfrm>
        </p:grpSpPr>
        <p:grpSp>
          <p:nvGrpSpPr>
            <p:cNvPr id="150" name=""/>
            <p:cNvGrpSpPr/>
            <p:nvPr/>
          </p:nvGrpSpPr>
          <p:grpSpPr>
            <a:xfrm>
              <a:off x="5311800" y="2708280"/>
              <a:ext cx="2143080" cy="1214280"/>
              <a:chOff x="5311800" y="2708280"/>
              <a:chExt cx="2143080" cy="12142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5311800" y="2708280"/>
                <a:ext cx="2143080" cy="1214280"/>
                <a:chOff x="5311800" y="2708280"/>
                <a:chExt cx="2143080" cy="1214280"/>
              </a:xfrm>
            </p:grpSpPr>
            <p:sp>
              <p:nvSpPr>
                <p:cNvPr id="152" name="矩形 16"/>
                <p:cNvSpPr/>
                <p:nvPr/>
              </p:nvSpPr>
              <p:spPr>
                <a:xfrm>
                  <a:off x="531180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矩形 17"/>
                <p:cNvSpPr/>
                <p:nvPr/>
              </p:nvSpPr>
              <p:spPr>
                <a:xfrm>
                  <a:off x="574020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矩形 18"/>
                <p:cNvSpPr/>
                <p:nvPr/>
              </p:nvSpPr>
              <p:spPr>
                <a:xfrm>
                  <a:off x="616896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矩形 19"/>
                <p:cNvSpPr/>
                <p:nvPr/>
              </p:nvSpPr>
              <p:spPr>
                <a:xfrm>
                  <a:off x="659772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矩形 20"/>
                <p:cNvSpPr/>
                <p:nvPr/>
              </p:nvSpPr>
              <p:spPr>
                <a:xfrm>
                  <a:off x="702648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5318280" y="3303720"/>
                <a:ext cx="212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321160" y="2708280"/>
              <a:ext cx="1714680" cy="1214280"/>
              <a:chOff x="5321160" y="2708280"/>
              <a:chExt cx="1714680" cy="1214280"/>
            </a:xfrm>
          </p:grpSpPr>
          <p:sp>
            <p:nvSpPr>
              <p:cNvPr id="159" name="矩形 16"/>
              <p:cNvSpPr/>
              <p:nvPr/>
            </p:nvSpPr>
            <p:spPr>
              <a:xfrm>
                <a:off x="5321160" y="2708280"/>
                <a:ext cx="42876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矩形 17"/>
              <p:cNvSpPr/>
              <p:nvPr/>
            </p:nvSpPr>
            <p:spPr>
              <a:xfrm>
                <a:off x="5749920" y="2708280"/>
                <a:ext cx="42840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矩形 18"/>
              <p:cNvSpPr/>
              <p:nvPr/>
            </p:nvSpPr>
            <p:spPr>
              <a:xfrm>
                <a:off x="6178320" y="2708280"/>
                <a:ext cx="42876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19"/>
              <p:cNvSpPr/>
              <p:nvPr/>
            </p:nvSpPr>
            <p:spPr>
              <a:xfrm>
                <a:off x="6607080" y="2708280"/>
                <a:ext cx="42876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矩形 16"/>
              <p:cNvSpPr/>
              <p:nvPr/>
            </p:nvSpPr>
            <p:spPr>
              <a:xfrm>
                <a:off x="5321160" y="2708280"/>
                <a:ext cx="428760" cy="6112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16"/>
              <p:cNvSpPr/>
              <p:nvPr/>
            </p:nvSpPr>
            <p:spPr>
              <a:xfrm>
                <a:off x="5743440" y="2708280"/>
                <a:ext cx="428760" cy="6112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16"/>
              <p:cNvSpPr/>
              <p:nvPr/>
            </p:nvSpPr>
            <p:spPr>
              <a:xfrm>
                <a:off x="6180120" y="2708280"/>
                <a:ext cx="428400" cy="6112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16"/>
              <p:cNvSpPr/>
              <p:nvPr/>
            </p:nvSpPr>
            <p:spPr>
              <a:xfrm>
                <a:off x="6602400" y="2708280"/>
                <a:ext cx="428400" cy="6112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5219640" y="3914640"/>
            <a:ext cx="3371760" cy="801000"/>
            <a:chOff x="5219640" y="3914640"/>
            <a:chExt cx="3371760" cy="801000"/>
          </a:xfrm>
        </p:grpSpPr>
        <p:grpSp>
          <p:nvGrpSpPr>
            <p:cNvPr id="168" name=""/>
            <p:cNvGrpSpPr/>
            <p:nvPr/>
          </p:nvGrpSpPr>
          <p:grpSpPr>
            <a:xfrm>
              <a:off x="5219640" y="3936960"/>
              <a:ext cx="511200" cy="778680"/>
              <a:chOff x="5219640" y="3936960"/>
              <a:chExt cx="511200" cy="778680"/>
            </a:xfrm>
          </p:grpSpPr>
          <p:sp>
            <p:nvSpPr>
              <p:cNvPr id="169" name=""/>
              <p:cNvSpPr/>
              <p:nvPr/>
            </p:nvSpPr>
            <p:spPr>
              <a:xfrm>
                <a:off x="5226120" y="42926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19640" y="39369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35480" y="43560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449680" y="4100400"/>
              <a:ext cx="2794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   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8080200" y="3914640"/>
              <a:ext cx="511200" cy="778680"/>
              <a:chOff x="8080200" y="3914640"/>
              <a:chExt cx="511200" cy="778680"/>
            </a:xfrm>
          </p:grpSpPr>
          <p:sp>
            <p:nvSpPr>
              <p:cNvPr id="174" name=""/>
              <p:cNvSpPr/>
              <p:nvPr/>
            </p:nvSpPr>
            <p:spPr>
              <a:xfrm>
                <a:off x="8086680" y="4270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80200" y="3914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96040" y="43336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208560" y="3916080"/>
              <a:ext cx="511200" cy="778680"/>
              <a:chOff x="6208560" y="3916080"/>
              <a:chExt cx="511200" cy="778680"/>
            </a:xfrm>
          </p:grpSpPr>
          <p:sp>
            <p:nvSpPr>
              <p:cNvPr id="178" name=""/>
              <p:cNvSpPr/>
              <p:nvPr/>
            </p:nvSpPr>
            <p:spPr>
              <a:xfrm>
                <a:off x="6215040" y="42717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208560" y="3916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24400" y="43351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827760" y="3916080"/>
              <a:ext cx="511200" cy="778680"/>
              <a:chOff x="6827760" y="3916080"/>
              <a:chExt cx="511200" cy="77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6834240" y="42717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27760" y="3916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843600" y="43351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361280" y="3916080"/>
              <a:ext cx="504720" cy="778680"/>
              <a:chOff x="7361280" y="3916080"/>
              <a:chExt cx="504720" cy="778680"/>
            </a:xfrm>
          </p:grpSpPr>
          <p:sp>
            <p:nvSpPr>
              <p:cNvPr id="186" name=""/>
              <p:cNvSpPr/>
              <p:nvPr/>
            </p:nvSpPr>
            <p:spPr>
              <a:xfrm>
                <a:off x="7361280" y="42717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450200" y="3916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27880" y="43351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教学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除以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95280" y="1413000"/>
            <a:ext cx="597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引入情境，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60" y="4432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43080" y="271440"/>
            <a:ext cx="840096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6"/>
          <p:cNvSpPr/>
          <p:nvPr/>
        </p:nvSpPr>
        <p:spPr>
          <a:xfrm>
            <a:off x="395280" y="1413000"/>
            <a:ext cx="6087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自主操作，深入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42920" y="457200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算式表示出刚才折或画的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47840" y="5753160"/>
            <a:ext cx="8429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比较两种解法，你有什么想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919080" y="509580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合画好的图，说说你的计算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出示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）你遇到了什么问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9"/>
          <p:cNvSpPr/>
          <p:nvPr/>
        </p:nvSpPr>
        <p:spPr>
          <a:xfrm>
            <a:off x="855720" y="6227640"/>
            <a:ext cx="785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上面的折纸实验和算式，你能发现什么规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2"/>
          <p:cNvSpPr/>
          <p:nvPr/>
        </p:nvSpPr>
        <p:spPr>
          <a:xfrm>
            <a:off x="5003640" y="54468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出示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说说你的想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187280" y="1989000"/>
            <a:ext cx="6649920" cy="778680"/>
            <a:chOff x="1187280" y="1989000"/>
            <a:chExt cx="6649920" cy="778680"/>
          </a:xfrm>
        </p:grpSpPr>
        <p:sp>
          <p:nvSpPr>
            <p:cNvPr id="201" name="TextBox 7"/>
            <p:cNvSpPr/>
            <p:nvPr/>
          </p:nvSpPr>
          <p:spPr>
            <a:xfrm>
              <a:off x="1187280" y="2108160"/>
              <a:ext cx="1643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一张纸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8"/>
            <p:cNvSpPr/>
            <p:nvPr/>
          </p:nvSpPr>
          <p:spPr>
            <a:xfrm>
              <a:off x="2836800" y="2151000"/>
              <a:ext cx="5000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均分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，每份是这张纸的几分之几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585880" y="1989000"/>
              <a:ext cx="511200" cy="778680"/>
              <a:chOff x="2585880" y="1989000"/>
              <a:chExt cx="511200" cy="778680"/>
            </a:xfrm>
          </p:grpSpPr>
          <p:sp>
            <p:nvSpPr>
              <p:cNvPr id="204" name=""/>
              <p:cNvSpPr/>
              <p:nvPr/>
            </p:nvSpPr>
            <p:spPr>
              <a:xfrm>
                <a:off x="2592360" y="2344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85880" y="1989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01720" y="24080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177920" y="2743200"/>
            <a:ext cx="2324160" cy="143820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4357800" y="2556000"/>
            <a:ext cx="3959280" cy="789120"/>
            <a:chOff x="4357800" y="2556000"/>
            <a:chExt cx="3959280" cy="789120"/>
          </a:xfrm>
        </p:grpSpPr>
        <p:sp>
          <p:nvSpPr>
            <p:cNvPr id="209" name="TextBox 6"/>
            <p:cNvSpPr/>
            <p:nvPr/>
          </p:nvSpPr>
          <p:spPr>
            <a:xfrm>
              <a:off x="4357800" y="2731680"/>
              <a:ext cx="1143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5364360" y="2556000"/>
              <a:ext cx="2952720" cy="789120"/>
              <a:chOff x="5364360" y="2556000"/>
              <a:chExt cx="2952720" cy="78912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5364360" y="2566800"/>
                <a:ext cx="511200" cy="778320"/>
                <a:chOff x="5364360" y="2566800"/>
                <a:chExt cx="511200" cy="7783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370840" y="29221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64360" y="25668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380200" y="29854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5594400" y="2730240"/>
                <a:ext cx="2722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            ＝？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6415200" y="2556000"/>
                <a:ext cx="893880" cy="778320"/>
                <a:chOff x="6415200" y="2556000"/>
                <a:chExt cx="893880" cy="778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640560" y="29113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415200" y="2556000"/>
                  <a:ext cx="8938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÷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431040" y="2974680"/>
                  <a:ext cx="660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0" name=""/>
          <p:cNvGrpSpPr/>
          <p:nvPr/>
        </p:nvGrpSpPr>
        <p:grpSpPr>
          <a:xfrm>
            <a:off x="4357800" y="3405240"/>
            <a:ext cx="4025520" cy="799200"/>
            <a:chOff x="4357800" y="3405240"/>
            <a:chExt cx="4025520" cy="799200"/>
          </a:xfrm>
        </p:grpSpPr>
        <p:sp>
          <p:nvSpPr>
            <p:cNvPr id="221" name="TextBox 6"/>
            <p:cNvSpPr/>
            <p:nvPr/>
          </p:nvSpPr>
          <p:spPr>
            <a:xfrm>
              <a:off x="4357800" y="3589560"/>
              <a:ext cx="1143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359680" y="3405240"/>
              <a:ext cx="3023640" cy="799200"/>
              <a:chOff x="5359680" y="3405240"/>
              <a:chExt cx="3023640" cy="79920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5359680" y="3425760"/>
                <a:ext cx="510480" cy="778680"/>
                <a:chOff x="5359680" y="3425760"/>
                <a:chExt cx="510480" cy="7786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365800" y="378144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359680" y="342576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375160" y="384480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5589360" y="3589560"/>
                <a:ext cx="2793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6348240" y="3405240"/>
                <a:ext cx="510480" cy="778680"/>
                <a:chOff x="6348240" y="3405240"/>
                <a:chExt cx="510480" cy="7786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354360" y="376092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48240" y="340524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363720" y="382428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6967440" y="3405240"/>
                <a:ext cx="510480" cy="778680"/>
                <a:chOff x="6967440" y="3405240"/>
                <a:chExt cx="510480" cy="7786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973560" y="376092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967440" y="340524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82920" y="382428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500960" y="3405240"/>
                <a:ext cx="504360" cy="778680"/>
                <a:chOff x="7500960" y="3405240"/>
                <a:chExt cx="504360" cy="7786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500960" y="376092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589520" y="340524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567200" y="38242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0" name=""/>
          <p:cNvGrpSpPr/>
          <p:nvPr/>
        </p:nvGrpSpPr>
        <p:grpSpPr>
          <a:xfrm>
            <a:off x="142920" y="4149720"/>
            <a:ext cx="8429760" cy="778680"/>
            <a:chOff x="142920" y="4149720"/>
            <a:chExt cx="8429760" cy="778680"/>
          </a:xfrm>
        </p:grpSpPr>
        <p:sp>
          <p:nvSpPr>
            <p:cNvPr id="241" name="Rectangle 2"/>
            <p:cNvSpPr/>
            <p:nvPr/>
          </p:nvSpPr>
          <p:spPr>
            <a:xfrm>
              <a:off x="142920" y="4214880"/>
              <a:ext cx="84297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问题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借助手中的学具，折一折，画一画，表示出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意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184800" y="4149720"/>
              <a:ext cx="511200" cy="778680"/>
              <a:chOff x="6184800" y="4149720"/>
              <a:chExt cx="511200" cy="778680"/>
            </a:xfrm>
          </p:grpSpPr>
          <p:sp>
            <p:nvSpPr>
              <p:cNvPr id="243" name=""/>
              <p:cNvSpPr/>
              <p:nvPr/>
            </p:nvSpPr>
            <p:spPr>
              <a:xfrm>
                <a:off x="6191280" y="4505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84800" y="4149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00640" y="4568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教学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除以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5"/>
          <p:cNvSpPr/>
          <p:nvPr/>
        </p:nvSpPr>
        <p:spPr>
          <a:xfrm>
            <a:off x="1360440" y="2205000"/>
            <a:ext cx="36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计算下面各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5280" y="1413000"/>
            <a:ext cx="3643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424160" y="2882880"/>
            <a:ext cx="3434760" cy="799200"/>
            <a:chOff x="1424160" y="2882880"/>
            <a:chExt cx="3434760" cy="799200"/>
          </a:xfrm>
        </p:grpSpPr>
        <p:grpSp>
          <p:nvGrpSpPr>
            <p:cNvPr id="250" name=""/>
            <p:cNvGrpSpPr/>
            <p:nvPr/>
          </p:nvGrpSpPr>
          <p:grpSpPr>
            <a:xfrm>
              <a:off x="1424160" y="2882880"/>
              <a:ext cx="3434760" cy="799200"/>
              <a:chOff x="1424160" y="2882880"/>
              <a:chExt cx="3434760" cy="799200"/>
            </a:xfrm>
          </p:grpSpPr>
          <p:sp>
            <p:nvSpPr>
              <p:cNvPr id="251" name=""/>
              <p:cNvSpPr/>
              <p:nvPr/>
            </p:nvSpPr>
            <p:spPr>
              <a:xfrm>
                <a:off x="1424160" y="32432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1506240" y="2882880"/>
                <a:ext cx="3352680" cy="799200"/>
                <a:chOff x="1506240" y="2882880"/>
                <a:chExt cx="3352680" cy="7992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506240" y="29052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736280" y="3068640"/>
                  <a:ext cx="27943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÷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 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  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5" name=""/>
                <p:cNvGrpSpPr/>
                <p:nvPr/>
              </p:nvGrpSpPr>
              <p:grpSpPr>
                <a:xfrm>
                  <a:off x="2319120" y="2895480"/>
                  <a:ext cx="1030320" cy="786600"/>
                  <a:chOff x="2319120" y="2895480"/>
                  <a:chExt cx="1030320" cy="786600"/>
                </a:xfrm>
              </p:grpSpPr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2319120" y="2895480"/>
                    <a:ext cx="1030320" cy="786600"/>
                    <a:chOff x="2319120" y="2895480"/>
                    <a:chExt cx="1030320" cy="78660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319120" y="3259080"/>
                      <a:ext cx="10206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328480" y="2895480"/>
                      <a:ext cx="10209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9" name=""/>
                  <p:cNvSpPr/>
                  <p:nvPr/>
                </p:nvSpPr>
                <p:spPr>
                  <a:xfrm>
                    <a:off x="2563560" y="3322440"/>
                    <a:ext cx="432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3095280" y="2892240"/>
                  <a:ext cx="1030320" cy="786600"/>
                  <a:chOff x="3095280" y="2892240"/>
                  <a:chExt cx="1030320" cy="78660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3095280" y="2892240"/>
                    <a:ext cx="1030320" cy="786600"/>
                    <a:chOff x="3095280" y="2892240"/>
                    <a:chExt cx="1030320" cy="78660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3095280" y="3255840"/>
                      <a:ext cx="10206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3104640" y="2892240"/>
                      <a:ext cx="10209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4" name=""/>
                  <p:cNvSpPr/>
                  <p:nvPr/>
                </p:nvSpPr>
                <p:spPr>
                  <a:xfrm>
                    <a:off x="3339720" y="3319200"/>
                    <a:ext cx="432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3828600" y="2882880"/>
                  <a:ext cx="1030320" cy="786600"/>
                  <a:chOff x="3828600" y="2882880"/>
                  <a:chExt cx="1030320" cy="786600"/>
                </a:xfrm>
              </p:grpSpPr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828600" y="2882880"/>
                    <a:ext cx="1030320" cy="786600"/>
                    <a:chOff x="3828600" y="2882880"/>
                    <a:chExt cx="1030320" cy="7866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3828600" y="3246480"/>
                      <a:ext cx="10206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3837960" y="2882880"/>
                      <a:ext cx="10209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9" name=""/>
                  <p:cNvSpPr/>
                  <p:nvPr/>
                </p:nvSpPr>
                <p:spPr>
                  <a:xfrm>
                    <a:off x="4073040" y="3309840"/>
                    <a:ext cx="432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70" name=""/>
            <p:cNvSpPr/>
            <p:nvPr/>
          </p:nvSpPr>
          <p:spPr>
            <a:xfrm>
              <a:off x="1522080" y="33242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548080" y="2892600"/>
            <a:ext cx="647640" cy="781560"/>
            <a:chOff x="2548080" y="2892600"/>
            <a:chExt cx="647640" cy="781560"/>
          </a:xfrm>
        </p:grpSpPr>
        <p:sp>
          <p:nvSpPr>
            <p:cNvPr id="272" name=""/>
            <p:cNvSpPr/>
            <p:nvPr/>
          </p:nvSpPr>
          <p:spPr>
            <a:xfrm>
              <a:off x="2638440" y="2892600"/>
              <a:ext cx="28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48080" y="3251160"/>
              <a:ext cx="64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397320" y="2892600"/>
            <a:ext cx="648720" cy="781560"/>
            <a:chOff x="3397320" y="2892600"/>
            <a:chExt cx="648720" cy="781560"/>
          </a:xfrm>
        </p:grpSpPr>
        <p:sp>
          <p:nvSpPr>
            <p:cNvPr id="275" name=""/>
            <p:cNvSpPr/>
            <p:nvPr/>
          </p:nvSpPr>
          <p:spPr>
            <a:xfrm>
              <a:off x="3397320" y="2892600"/>
              <a:ext cx="286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98400" y="3251160"/>
              <a:ext cx="64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044960" y="2882880"/>
            <a:ext cx="647640" cy="781920"/>
            <a:chOff x="4044960" y="2882880"/>
            <a:chExt cx="647640" cy="781920"/>
          </a:xfrm>
        </p:grpSpPr>
        <p:sp>
          <p:nvSpPr>
            <p:cNvPr id="278" name=""/>
            <p:cNvSpPr/>
            <p:nvPr/>
          </p:nvSpPr>
          <p:spPr>
            <a:xfrm>
              <a:off x="4135320" y="2882880"/>
              <a:ext cx="28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44960" y="3241800"/>
              <a:ext cx="64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479600" y="3860640"/>
            <a:ext cx="3359160" cy="799200"/>
            <a:chOff x="1479600" y="3860640"/>
            <a:chExt cx="3359160" cy="799200"/>
          </a:xfrm>
        </p:grpSpPr>
        <p:sp>
          <p:nvSpPr>
            <p:cNvPr id="281" name=""/>
            <p:cNvSpPr/>
            <p:nvPr/>
          </p:nvSpPr>
          <p:spPr>
            <a:xfrm>
              <a:off x="1479600" y="42210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486080" y="3860640"/>
              <a:ext cx="3352680" cy="799200"/>
              <a:chOff x="1486080" y="3860640"/>
              <a:chExt cx="3352680" cy="799200"/>
            </a:xfrm>
          </p:grpSpPr>
          <p:sp>
            <p:nvSpPr>
              <p:cNvPr id="283" name=""/>
              <p:cNvSpPr/>
              <p:nvPr/>
            </p:nvSpPr>
            <p:spPr>
              <a:xfrm>
                <a:off x="1486080" y="38829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16120" y="4046400"/>
                <a:ext cx="2794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2298960" y="3873240"/>
                <a:ext cx="1030320" cy="786600"/>
                <a:chOff x="2298960" y="3873240"/>
                <a:chExt cx="1030320" cy="786600"/>
              </a:xfrm>
            </p:grpSpPr>
            <p:grpSp>
              <p:nvGrpSpPr>
                <p:cNvPr id="286" name=""/>
                <p:cNvGrpSpPr/>
                <p:nvPr/>
              </p:nvGrpSpPr>
              <p:grpSpPr>
                <a:xfrm>
                  <a:off x="2298960" y="3873240"/>
                  <a:ext cx="1030320" cy="786600"/>
                  <a:chOff x="2298960" y="3873240"/>
                  <a:chExt cx="1030320" cy="7866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2298960" y="4236840"/>
                    <a:ext cx="10206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（   ）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308320" y="3873240"/>
                    <a:ext cx="10209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（   ）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>
                  <a:off x="2543400" y="4300200"/>
                  <a:ext cx="43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075120" y="3870000"/>
                <a:ext cx="1030320" cy="786600"/>
                <a:chOff x="3075120" y="3870000"/>
                <a:chExt cx="1030320" cy="786600"/>
              </a:xfrm>
            </p:grpSpPr>
            <p:grpSp>
              <p:nvGrpSpPr>
                <p:cNvPr id="291" name=""/>
                <p:cNvGrpSpPr/>
                <p:nvPr/>
              </p:nvGrpSpPr>
              <p:grpSpPr>
                <a:xfrm>
                  <a:off x="3075120" y="3870000"/>
                  <a:ext cx="1030320" cy="786600"/>
                  <a:chOff x="3075120" y="3870000"/>
                  <a:chExt cx="1030320" cy="7866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3075120" y="4233600"/>
                    <a:ext cx="10206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（   ）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084480" y="3870000"/>
                    <a:ext cx="10209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（   ）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3319560" y="4296960"/>
                  <a:ext cx="43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808440" y="3860640"/>
                <a:ext cx="1030320" cy="786600"/>
                <a:chOff x="3808440" y="3860640"/>
                <a:chExt cx="1030320" cy="78660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808440" y="3860640"/>
                  <a:ext cx="1030320" cy="786600"/>
                  <a:chOff x="3808440" y="3860640"/>
                  <a:chExt cx="1030320" cy="7866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808440" y="4224240"/>
                    <a:ext cx="10206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（   ）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817800" y="3860640"/>
                    <a:ext cx="10209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（   ）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4052880" y="4287600"/>
                  <a:ext cx="43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"/>
            <p:cNvSpPr/>
            <p:nvPr/>
          </p:nvSpPr>
          <p:spPr>
            <a:xfrm>
              <a:off x="1501920" y="43020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89120" y="3870360"/>
            <a:ext cx="647640" cy="781920"/>
            <a:chOff x="2589120" y="3870360"/>
            <a:chExt cx="647640" cy="781920"/>
          </a:xfrm>
        </p:grpSpPr>
        <p:sp>
          <p:nvSpPr>
            <p:cNvPr id="302" name=""/>
            <p:cNvSpPr/>
            <p:nvPr/>
          </p:nvSpPr>
          <p:spPr>
            <a:xfrm>
              <a:off x="2598480" y="3870360"/>
              <a:ext cx="28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89120" y="4229280"/>
              <a:ext cx="64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376440" y="3870360"/>
            <a:ext cx="649440" cy="781920"/>
            <a:chOff x="3376440" y="3870360"/>
            <a:chExt cx="649440" cy="781920"/>
          </a:xfrm>
        </p:grpSpPr>
        <p:sp>
          <p:nvSpPr>
            <p:cNvPr id="305" name=""/>
            <p:cNvSpPr/>
            <p:nvPr/>
          </p:nvSpPr>
          <p:spPr>
            <a:xfrm>
              <a:off x="3376440" y="3870360"/>
              <a:ext cx="28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77880" y="4229280"/>
              <a:ext cx="648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024440" y="3860640"/>
            <a:ext cx="647640" cy="781920"/>
            <a:chOff x="4024440" y="3860640"/>
            <a:chExt cx="647640" cy="781920"/>
          </a:xfrm>
        </p:grpSpPr>
        <p:sp>
          <p:nvSpPr>
            <p:cNvPr id="308" name=""/>
            <p:cNvSpPr/>
            <p:nvPr/>
          </p:nvSpPr>
          <p:spPr>
            <a:xfrm>
              <a:off x="4114800" y="3860640"/>
              <a:ext cx="28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24440" y="4219560"/>
              <a:ext cx="64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教学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除以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50"/>
          <p:cNvSpPr/>
          <p:nvPr/>
        </p:nvSpPr>
        <p:spPr>
          <a:xfrm>
            <a:off x="395280" y="1413000"/>
            <a:ext cx="547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引入情境，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142920" y="486252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读懂了什么？想到了什么？请你根据信息画出线段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58720" y="5576760"/>
            <a:ext cx="90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要想比谁走得快，我们可以比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比较平均每小时走的路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比较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所用的时间（本课时先解决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机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44680" y="2060640"/>
            <a:ext cx="4458960" cy="287820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5893560" y="1916280"/>
            <a:ext cx="2045880" cy="778320"/>
            <a:chOff x="5893560" y="1916280"/>
            <a:chExt cx="2045880" cy="778320"/>
          </a:xfrm>
        </p:grpSpPr>
        <p:sp>
          <p:nvSpPr>
            <p:cNvPr id="316" name="Rectangle 49"/>
            <p:cNvSpPr/>
            <p:nvPr/>
          </p:nvSpPr>
          <p:spPr>
            <a:xfrm>
              <a:off x="5893560" y="2023920"/>
              <a:ext cx="2045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明     小时走了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86520" y="1916280"/>
              <a:ext cx="510480" cy="778320"/>
              <a:chOff x="6086520" y="1916280"/>
              <a:chExt cx="510480" cy="778320"/>
            </a:xfrm>
          </p:grpSpPr>
          <p:sp>
            <p:nvSpPr>
              <p:cNvPr id="318" name=""/>
              <p:cNvSpPr/>
              <p:nvPr/>
            </p:nvSpPr>
            <p:spPr>
              <a:xfrm>
                <a:off x="6092640" y="227160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86520" y="191628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02000" y="233496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414040" y="2556000"/>
            <a:ext cx="2274840" cy="1192680"/>
            <a:chOff x="5414040" y="2556000"/>
            <a:chExt cx="2274840" cy="1192680"/>
          </a:xfrm>
        </p:grpSpPr>
        <p:sp>
          <p:nvSpPr>
            <p:cNvPr id="322" name="Rectangle 49"/>
            <p:cNvSpPr/>
            <p:nvPr/>
          </p:nvSpPr>
          <p:spPr>
            <a:xfrm>
              <a:off x="5414040" y="2694600"/>
              <a:ext cx="22748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红     小时走了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走得快些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？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470560" y="2556000"/>
              <a:ext cx="504720" cy="761040"/>
              <a:chOff x="5470560" y="2556000"/>
              <a:chExt cx="504720" cy="761040"/>
            </a:xfrm>
          </p:grpSpPr>
          <p:sp>
            <p:nvSpPr>
              <p:cNvPr id="324" name=""/>
              <p:cNvSpPr/>
              <p:nvPr/>
            </p:nvSpPr>
            <p:spPr>
              <a:xfrm>
                <a:off x="5470560" y="28940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3000" y="2556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68840" y="2975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865920" y="2559240"/>
              <a:ext cx="511200" cy="778680"/>
              <a:chOff x="6865920" y="2559240"/>
              <a:chExt cx="511200" cy="778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872400" y="29149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865920" y="25592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81760" y="29782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5867280" y="3606840"/>
            <a:ext cx="2160720" cy="1378800"/>
            <a:chOff x="5867280" y="3606840"/>
            <a:chExt cx="2160720" cy="1378800"/>
          </a:xfrm>
        </p:grpSpPr>
        <p:sp>
          <p:nvSpPr>
            <p:cNvPr id="332" name=""/>
            <p:cNvSpPr/>
            <p:nvPr/>
          </p:nvSpPr>
          <p:spPr>
            <a:xfrm rot="16200000">
              <a:off x="6875280" y="3487320"/>
              <a:ext cx="142920" cy="215892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56160 h 2158920"/>
                <a:gd name="textAreaBottom" fmla="*/ 2102760 h 21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67280" y="4398840"/>
              <a:ext cx="2160720" cy="81000"/>
              <a:chOff x="5867280" y="4398840"/>
              <a:chExt cx="2160720" cy="81000"/>
            </a:xfrm>
          </p:grpSpPr>
          <p:sp>
            <p:nvSpPr>
              <p:cNvPr id="334" name=""/>
              <p:cNvSpPr/>
              <p:nvPr/>
            </p:nvSpPr>
            <p:spPr>
              <a:xfrm>
                <a:off x="5867280" y="4470120"/>
                <a:ext cx="2158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67280" y="4408200"/>
                <a:ext cx="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028000" y="4398840"/>
                <a:ext cx="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 flipV="1" rot="5400000">
              <a:off x="6875280" y="3205080"/>
              <a:ext cx="142560" cy="215892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6160 h 2158920"/>
                <a:gd name="textAreaBottom" fmla="*/ 2102760 h 21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64320" y="4562640"/>
              <a:ext cx="599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6659280" y="3606840"/>
              <a:ext cx="511200" cy="726120"/>
              <a:chOff x="6659280" y="3606840"/>
              <a:chExt cx="511200" cy="726120"/>
            </a:xfrm>
          </p:grpSpPr>
          <p:sp>
            <p:nvSpPr>
              <p:cNvPr id="340" name=""/>
              <p:cNvSpPr/>
              <p:nvPr/>
            </p:nvSpPr>
            <p:spPr>
              <a:xfrm>
                <a:off x="6665760" y="39099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59280" y="3606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75120" y="3992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939000" y="3751200"/>
              <a:ext cx="71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教学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除以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50"/>
          <p:cNvSpPr/>
          <p:nvPr/>
        </p:nvSpPr>
        <p:spPr>
          <a:xfrm>
            <a:off x="39672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自主操作，深入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1143000" y="2214720"/>
            <a:ext cx="59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决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小明平均每小时走多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679320" y="559908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思考，在刚才的线段图上如何表示小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时走的路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916360" y="2997360"/>
            <a:ext cx="2160360" cy="1378440"/>
            <a:chOff x="2916360" y="2997360"/>
            <a:chExt cx="2160360" cy="1378440"/>
          </a:xfrm>
        </p:grpSpPr>
        <p:sp>
          <p:nvSpPr>
            <p:cNvPr id="349" name=""/>
            <p:cNvSpPr/>
            <p:nvPr/>
          </p:nvSpPr>
          <p:spPr>
            <a:xfrm rot="16200000">
              <a:off x="3924360" y="2877840"/>
              <a:ext cx="142560" cy="21585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6160 h 2158560"/>
                <a:gd name="textAreaBottom" fmla="*/ 2102400 h 21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916360" y="3789000"/>
              <a:ext cx="2160360" cy="80280"/>
              <a:chOff x="2916360" y="3789000"/>
              <a:chExt cx="2160360" cy="80280"/>
            </a:xfrm>
          </p:grpSpPr>
          <p:sp>
            <p:nvSpPr>
              <p:cNvPr id="351" name=""/>
              <p:cNvSpPr/>
              <p:nvPr/>
            </p:nvSpPr>
            <p:spPr>
              <a:xfrm>
                <a:off x="2916360" y="3859920"/>
                <a:ext cx="2158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16360" y="3798000"/>
                <a:ext cx="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76720" y="3789000"/>
                <a:ext cx="0" cy="7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flipV="1" rot="5400000">
              <a:off x="3924360" y="2594160"/>
              <a:ext cx="142200" cy="2158560"/>
            </a:xfrm>
            <a:custGeom>
              <a:avLst/>
              <a:gdLst>
                <a:gd name="textAreaLeft" fmla="*/ 91080 w 142200"/>
                <a:gd name="textAreaRight" fmla="*/ 142560 w 142200"/>
                <a:gd name="textAreaTop" fmla="*/ 56160 h 2158560"/>
                <a:gd name="textAreaBottom" fmla="*/ 2102400 h 21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12680" y="3952800"/>
              <a:ext cx="599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708000" y="2997360"/>
              <a:ext cx="510480" cy="725760"/>
              <a:chOff x="3708000" y="2997360"/>
              <a:chExt cx="510480" cy="725760"/>
            </a:xfrm>
          </p:grpSpPr>
          <p:sp>
            <p:nvSpPr>
              <p:cNvPr id="357" name=""/>
              <p:cNvSpPr/>
              <p:nvPr/>
            </p:nvSpPr>
            <p:spPr>
              <a:xfrm>
                <a:off x="3714120" y="33001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08000" y="299736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23480" y="338292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3987720" y="3141360"/>
              <a:ext cx="718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50920" y="4797360"/>
            <a:ext cx="8568720" cy="990360"/>
            <a:chOff x="250920" y="4797360"/>
            <a:chExt cx="8568720" cy="990360"/>
          </a:xfrm>
        </p:grpSpPr>
        <p:sp>
          <p:nvSpPr>
            <p:cNvPr id="362" name="Rectangle 2"/>
            <p:cNvSpPr/>
            <p:nvPr/>
          </p:nvSpPr>
          <p:spPr>
            <a:xfrm>
              <a:off x="250920" y="4797360"/>
              <a:ext cx="856872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问题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怎样求上面的问题？用到了我们以前学过的什么知识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路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间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速度）请你列出算式。（           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6102000" y="5022000"/>
              <a:ext cx="946440" cy="765720"/>
              <a:chOff x="6102000" y="5022000"/>
              <a:chExt cx="946440" cy="765720"/>
            </a:xfrm>
          </p:grpSpPr>
          <p:sp>
            <p:nvSpPr>
              <p:cNvPr id="364" name="Rectangle 49"/>
              <p:cNvSpPr/>
              <p:nvPr/>
            </p:nvSpPr>
            <p:spPr>
              <a:xfrm>
                <a:off x="6102000" y="5190120"/>
                <a:ext cx="432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529320" y="5022000"/>
                <a:ext cx="519120" cy="765720"/>
                <a:chOff x="6529320" y="5022000"/>
                <a:chExt cx="519120" cy="7657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535800" y="5364720"/>
                  <a:ext cx="5126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529320" y="5022000"/>
                  <a:ext cx="3661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545160" y="5425920"/>
                  <a:ext cx="291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9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教学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除以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41:3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